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EC1-4DE3-4AA1-A366-B0EA5F29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1C5-3760-4C5C-9971-C8ECDA1F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374-4669-493C-8921-A7D6B671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434-7D09-4871-8CAC-1E1E8E97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F66-87F8-42C8-8A2C-EB8D69B4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C3B-3F5E-4062-B86F-3EBC8FB3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EAEA-C33A-4341-A36B-8FA8E6B6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96E-DACC-4AD0-8A62-E7DA5075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A2F-9C1C-45E0-80A9-F72F347D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02CD-B6D5-4644-80B2-6441F2C4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7E1-D523-40BD-86A0-87F4C2A7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94E5-ACB7-46EC-AE93-3731FBE9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CD85-1E55-4116-AEB3-25AB420DB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081200">
            <a:off x="1371600" y="0"/>
            <a:ext cx="499752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ilbert Erector Set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4800600"/>
            <a:ext cx="30477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ke Gil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17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76320" y="68580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4952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791320"/>
            <a:ext cx="4953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 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my Ang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ebruary 27, 2012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171775"/>
            </a:gs>
            <a:gs pos="100000">
              <a:srgbClr val="3333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A.C. Gilbert"/>
          <p:cNvPicPr/>
          <p:nvPr/>
        </p:nvPicPr>
        <p:blipFill>
          <a:blip r:embed="rId1"/>
          <a:stretch/>
        </p:blipFill>
        <p:spPr>
          <a:xfrm>
            <a:off x="0" y="0"/>
            <a:ext cx="9144000" cy="2743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6216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rector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Set 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, 17, 2012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Febhttp://web.mit.edu/invent/iow/gilber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1240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C. Gilbert started  off making toys to educate and entertain children so they didn’t have to go to sch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53080" y="2743200"/>
            <a:ext cx="2590920" cy="1849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0120" y="2743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A.C. Gilb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C. Gilbert was one of the most famous multitalented inventor of all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hose to educate and entertain children through to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09 A.C. Gilbert finished medical school but decided to expand his budding toy busi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lbert began selling the Gilbert Erector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ritish toy company (also Gilberts rival), began selling a similar to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lberts Erector set grew more popular and everyone was buying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ion: The Gilbert Erector 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lbert Erector Set was made metal beams, screws, bolts, pulleys, gears, and eventually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lbert Erector Set began to sell and everyone new, which made his other toys very popu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13 Gilbert Erector Set stopped selling and he began to sell the Mysto Erector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41:16Z</dcterms:created>
  <dc:creator>install</dc:creator>
  <dc:description/>
  <dc:language>en-US</dc:language>
  <cp:lastModifiedBy>install</cp:lastModifiedBy>
  <dcterms:modified xsi:type="dcterms:W3CDTF">2012-03-09T15:00:47Z</dcterms:modified>
  <cp:revision>8</cp:revision>
  <dc:subject/>
  <dc:title>Slide 1</dc:title>
</cp:coreProperties>
</file>